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EB1-8C0F-44FB-90F3-354C7E2DE93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04D-D76B-481C-AB13-5F29AD689EF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1DD-46C7-4BAF-983F-8564B069CD8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761-CA76-4C7B-8986-5B2E731BF54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83B1-5E2E-4C0C-A6B8-7F0042B646B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C4E-B7E5-4C61-8343-76712EA1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925-3693-400B-A012-C5482C0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FE9-9D3A-4208-BED5-B79C54E9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449-9DA4-448D-9EAA-777DABA0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8C9-F920-4C99-A7DF-A21ACD61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8142-8286-4DD6-888A-D01D2E5B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592-5D95-4887-B524-12F04FB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E21-8E41-486F-9C7B-F4D78D9C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543D-A567-49A7-8C8D-9D594DC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1AE0-26D8-422A-BBF8-0657F7D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7103-47B6-4890-99B1-0E825A6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167-4936-4236-B41F-48DED620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A4E9-BF0C-4CC7-8B05-997F3EE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F381-40E1-4D10-A533-B0CFC86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45BC-1F21-4CEA-A871-C2DCE3A4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5E5-5C11-4E8B-ADED-DDA3424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10C-C4E2-4E85-886C-7D89CF49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4A1C-6094-45F5-9CB1-2DB99F15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BA9D-B0DE-4A19-ADEC-30DAF807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6B68-C833-4AE3-A869-171B0DE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45B7-6627-4279-9CCF-3E3E5C3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E984-5D49-46D7-A7C5-F5A319C4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CA9-9720-464A-953A-58438EA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F752-8878-4A61-8BF3-7706733B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6905-7752-4838-A720-898012D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9734-E8CB-4663-A303-88B2B41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B79A-5F3A-4CAC-8963-403FACC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AA20-5D02-40FE-BB7F-EA78533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4185-F745-4B6F-A1B1-91346D7F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79DC-C7A4-4B3B-BA7D-A3F70D14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B5781-6CC1-4945-858E-01C98D5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BF03-159C-4C37-BCA9-44EEC78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B4D3-1A53-4309-8ECA-9FD37A95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6C3-31CD-4A41-A9EC-71BD6FC1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5B8D-2CAD-4D99-A430-FF0CB30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3884-8B78-4063-895A-5E62453E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8DF6-7234-4131-AC0F-0AD8FA62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81CA-C29A-434E-8807-D9D16B0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DAA65-EBA6-4453-9911-85282CA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441C-0684-4C7A-A93B-CF64627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765F-1C92-47A3-AF07-128ECA2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8AB9-7BA3-4943-98EF-BB24D3A3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4300-49E5-4882-8B9C-A840827C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D8-09AC-4E5B-B8F1-92164A2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43D-0B3E-43F7-B37F-D9B11B9F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0C9-8DE4-4728-BA64-11C9600C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1A4-0F96-42DA-B1C3-FA447D10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BEB-602A-45B9-AD84-155A191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C427-7001-4F3C-9EEE-6D019F5237BA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B52-F81E-4554-9A78-0373CA5B0367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FC87-8547-494C-8297-169EC444C0F6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0AC-A031-4789-BEBE-D5B5C449D3CB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cast.com/t/x7LJJzpVhXjz" TargetMode="External"/><Relationship Id="rId2" Type="http://schemas.openxmlformats.org/officeDocument/2006/relationships/hyperlink" Target="http://www.screencast.com/t/x7LJJzpVhXjz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reencast.com/t/lDuR7xJhKP60" TargetMode="External"/><Relationship Id="rId2" Type="http://schemas.openxmlformats.org/officeDocument/2006/relationships/hyperlink" Target="http://www.screencast.com/t/lDuR7xJhKP6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3565440"/>
            <a:ext cx="83883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58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 </a:t>
            </a:r>
            <a:br>
              <a:rPr sz="2800"/>
            </a:br>
            <a:r>
              <a:rPr b="1" lang="en-NZ" sz="3000" spc="-1" strike="noStrike">
                <a:solidFill>
                  <a:srgbClr val="04617b"/>
                </a:solidFill>
                <a:latin typeface="Calibri"/>
                <a:ea typeface="Calibri"/>
              </a:rPr>
              <a:t>Number Strategies  - </a:t>
            </a:r>
            <a:r>
              <a:rPr b="1" lang="en-NZ" sz="3000" spc="-1" strike="noStrike">
                <a:solidFill>
                  <a:srgbClr val="04617b"/>
                </a:solidFill>
                <a:latin typeface="Calibri"/>
              </a:rPr>
              <a:t>Use a range of counting, grouping strategies with whole numbers.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3068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Use the strategy of ‘counting on’ to solve  addition problem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Constantia"/>
              </a:rPr>
              <a:t>The Number Partn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c000"/>
                </a:solidFill>
                <a:uFillTx/>
                <a:latin typeface="Comic Sans MS"/>
              </a:rPr>
              <a:t>http://www.screencast.com/t/VJIj8dr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Have a Go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http://nzmaths.co.nz/digital-learning-objec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User name: </a:t>
            </a: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ictpdclust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Password: </a:t>
            </a: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Engagemen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NZ" sz="5400" spc="-1" strike="noStrike">
                <a:solidFill>
                  <a:srgbClr val="04617b"/>
                </a:solidFill>
                <a:latin typeface="Calibri"/>
              </a:rPr>
              <a:t>How can Digital Learning Objects be used in the classroom for reading?</a:t>
            </a:r>
            <a:br>
              <a:rPr sz="54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800"/>
            </a:br>
            <a:r>
              <a:rPr b="1" lang="en-NZ" sz="2700" spc="-1" strike="noStrike">
                <a:solidFill>
                  <a:srgbClr val="04617b"/>
                </a:solidFill>
                <a:latin typeface="Calibri"/>
              </a:rPr>
              <a:t>Listening, reading, and viewing – Structure</a:t>
            </a:r>
            <a:br>
              <a:rPr sz="2700"/>
            </a:br>
            <a:r>
              <a:rPr b="0" lang="en-NZ" sz="2500" spc="-1" strike="noStrike">
                <a:solidFill>
                  <a:srgbClr val="04617b"/>
                </a:solidFill>
                <a:latin typeface="Calibri"/>
              </a:rPr>
              <a:t>Understands that the order and organisation of words, sentences, and images contribute to text meaning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85264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Match sentences to pictur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Sequence a story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Dragons Jumbled Drea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nstantia"/>
              </a:rPr>
              <a:t>http://www.screencast.com/t/8qg5JX0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Language features - </a:t>
            </a:r>
            <a:r>
              <a:rPr b="0" lang="en-NZ" sz="2800" spc="-1" strike="noStrike">
                <a:solidFill>
                  <a:srgbClr val="04617b"/>
                </a:solidFill>
                <a:latin typeface="Calibri"/>
              </a:rPr>
              <a:t>Shows some knowledge of text conventions (capital letters)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292392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dentify upper case and lower case letter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dentify letters in a variety of font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Zoo Detectiv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http://www.screencast.com/t/NbYl7b7XkbU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4617b"/>
                </a:solidFill>
                <a:uFillTx/>
                <a:latin typeface="Calibri"/>
              </a:rPr>
              <a:t>Level 1 Achievement Objective</a:t>
            </a:r>
            <a:br>
              <a:rPr sz="2500"/>
            </a:br>
            <a:r>
              <a:rPr b="1" lang="en-NZ" sz="2700" spc="-1" strike="noStrike">
                <a:solidFill>
                  <a:srgbClr val="04617b"/>
                </a:solidFill>
                <a:latin typeface="Calibri"/>
              </a:rPr>
              <a:t>Listening, reading, and viewing – Processes &amp; Strategies</a:t>
            </a:r>
            <a:br>
              <a:rPr sz="2500"/>
            </a:br>
            <a:r>
              <a:rPr b="0" lang="en-NZ" sz="2500" spc="-1" strike="noStrike">
                <a:solidFill>
                  <a:srgbClr val="04617b"/>
                </a:solidFill>
                <a:latin typeface="Calibri"/>
              </a:rPr>
              <a:t>Associates sounds with letter clusters as well as with individual letters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2565360"/>
            <a:ext cx="83628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 u="sng">
                <a:solidFill>
                  <a:srgbClr val="04617b"/>
                </a:solidFill>
                <a:uFillTx/>
                <a:latin typeface="Snap ITC"/>
              </a:rPr>
              <a:t>We are learning to….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Find words that have the blend 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000000"/>
                </a:solidFill>
                <a:latin typeface="Constantia"/>
              </a:rPr>
              <a:t>sh, ch and th. </a:t>
            </a: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989000"/>
            <a:ext cx="82296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Constantia"/>
              </a:rPr>
              <a:t>Letter Planet sh, ch, th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nstantia"/>
              </a:rPr>
              <a:t>Year One Studen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creencast.com/t/Z2eYPDHp9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What is Digital Learning Object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5627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Range of free digital learning resources for use in the classroo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Covers a variety of curriculum areas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100" spc="-1" strike="noStrike">
                <a:solidFill>
                  <a:srgbClr val="000000"/>
                </a:solidFill>
                <a:latin typeface="Constantia"/>
              </a:rPr>
              <a:t>Content provided from the Ministry of Education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clipartheaven.com/clipart/education_&amp;_schools/cartoons/question_mark.gif"/>
          <p:cNvPicPr/>
          <p:nvPr/>
        </p:nvPicPr>
        <p:blipFill>
          <a:blip r:embed="rId1"/>
          <a:stretch/>
        </p:blipFill>
        <p:spPr>
          <a:xfrm>
            <a:off x="5796000" y="2421000"/>
            <a:ext cx="2378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Have A Go!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http://www.digistore.tki.org.nz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User name: ictpdcluster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Constantia"/>
              </a:rPr>
              <a:t>Password: Engagemen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How to manage digital learning objects in the classroom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56000" y="1916280"/>
            <a:ext cx="63468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Independent activity on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task-board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Peer teaching and lear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Early finisher activity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Student voice can be recorded for students to reflect on their lear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C:\Documents and Settings\Educator\My Documents\My Pictures\Picture\Picture 306.jpg"/>
          <p:cNvPicPr/>
          <p:nvPr/>
        </p:nvPicPr>
        <p:blipFill>
          <a:blip r:embed="rId1"/>
          <a:srcRect l="3705" t="12914" r="10446" b="7797"/>
          <a:stretch/>
        </p:blipFill>
        <p:spPr>
          <a:xfrm>
            <a:off x="577800" y="3429000"/>
            <a:ext cx="1800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Wall Wish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nstantia"/>
              </a:rPr>
              <a:t>Post your reflections on the wal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nstantia"/>
              </a:rPr>
              <a:t>http://www.wallwisher.com/wall/globoju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Benefits of using learning objects in the classroom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512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New Zealand learning resourc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Hands on fun interactive learning activitie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nstantia"/>
              </a:rPr>
              <a:t>Caters for a range of learning level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Documents and Settings\Educator\My Documents\My Pictures\Picture\Picture 288.jpg"/>
          <p:cNvPicPr/>
          <p:nvPr/>
        </p:nvPicPr>
        <p:blipFill>
          <a:blip r:embed="rId1"/>
          <a:srcRect l="21553" t="22111" r="8623" b="8011"/>
          <a:stretch/>
        </p:blipFill>
        <p:spPr>
          <a:xfrm>
            <a:off x="5940360" y="2492280"/>
            <a:ext cx="26402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Why would you use digital learning objects in the classroom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964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Opportunity for students to engage with text and numbers using e-Learn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Easily integrated into the classroom program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00" spc="-1" strike="noStrike">
                <a:solidFill>
                  <a:srgbClr val="000000"/>
                </a:solidFill>
                <a:latin typeface="Constantia"/>
              </a:rPr>
              <a:t>Opportunity for students to work independentl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nstantia"/>
              </a:rPr>
              <a:t>Large variety of free resources availabl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500" spc="-1" strike="noStrike">
                <a:solidFill>
                  <a:srgbClr val="04617b"/>
                </a:solidFill>
                <a:latin typeface="Calibri"/>
              </a:rPr>
              <a:t>How does digital learning objects link to the NZ curriculum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Key Competenci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Thinking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 - Students use critical and problem solving strategies to interpret information. Allows students to take risks with their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nstantia"/>
              </a:rPr>
              <a:t>Using language symbols and text </a:t>
            </a: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Students use words, numbers and images in a range of learning contexts using I.C.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Curriculum Learning Are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Maths – all str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nstantia"/>
              </a:rPr>
              <a:t>English  - Listening, reading, and vie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  <a:ea typeface="Calibri"/>
              </a:rPr>
              <a:t>Number Knowledge  - </a:t>
            </a: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know the forward and backward counting sequences of whole numbers to 100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Sequence whole numbers from 1 - 1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nnect number words, numerals and ten frame dots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unt forwards and backwards to 1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4617b"/>
                </a:solidFill>
                <a:latin typeface="Constantia"/>
              </a:rPr>
              <a:t>Number Train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One New Entrant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www.screencast.com/t/x7LJJzpVhXjz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NZ" sz="2800" spc="-1" strike="noStrike" u="sng">
                <a:solidFill>
                  <a:srgbClr val="04617b"/>
                </a:solidFill>
                <a:uFillTx/>
                <a:latin typeface="Calibri"/>
                <a:ea typeface="Calibri"/>
              </a:rPr>
              <a:t>Level 1 Achievement Objective.</a:t>
            </a:r>
            <a:br>
              <a:rPr sz="2800"/>
            </a:br>
            <a:r>
              <a:rPr b="1" lang="en-NZ" sz="2800" spc="-1" strike="noStrike">
                <a:solidFill>
                  <a:srgbClr val="04617b"/>
                </a:solidFill>
                <a:latin typeface="Calibri"/>
                <a:ea typeface="Calibri"/>
              </a:rPr>
              <a:t>Number Knowledge  - </a:t>
            </a:r>
            <a:r>
              <a:rPr b="1" lang="en-NZ" sz="2800" spc="-1" strike="noStrike">
                <a:solidFill>
                  <a:srgbClr val="04617b"/>
                </a:solidFill>
                <a:latin typeface="Calibri"/>
              </a:rPr>
              <a:t>know the forward and backward counting sequences of whole numbers to 100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4920" y="2349000"/>
            <a:ext cx="84358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900" spc="-1" strike="noStrike">
                <a:solidFill>
                  <a:srgbClr val="04617b"/>
                </a:solidFill>
                <a:latin typeface="Snap ITC"/>
              </a:rPr>
              <a:t>We are learning to….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Sequence whole numbers from 1 - 10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nnect number words, numerals and place value.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nstantia"/>
              </a:rPr>
              <a:t>Count forwards and backwards to 100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4617b"/>
                </a:solidFill>
                <a:latin typeface="Calibri"/>
              </a:rPr>
              <a:t>Number Tra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Year Two studen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NZ" sz="3000" spc="-1" strike="noStrike" u="sng">
                <a:solidFill>
                  <a:srgbClr val="f49100"/>
                </a:solidFill>
                <a:uFillTx/>
                <a:latin typeface="Constantia"/>
                <a:hlinkClick r:id="rId2"/>
              </a:rPr>
              <a:t>www.screencast.com/t/lDuR7xJhKP60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22:40:35Z</dcterms:created>
  <dc:creator>Ministry of Education</dc:creator>
  <dc:description/>
  <dc:language>en-US</dc:language>
  <cp:lastModifiedBy>Director</cp:lastModifiedBy>
  <dcterms:modified xsi:type="dcterms:W3CDTF">2012-03-07T20:49:27Z</dcterms:modified>
  <cp:revision>84</cp:revision>
  <dc:subject/>
  <dc:title>Digital Reading and Maths</dc:title>
</cp:coreProperties>
</file>